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B97C-68E3-4795-8C01-F3C224FE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2178-A13B-4038-A67D-33DE5FB1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0747-FA86-46CC-B548-05F866DB7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0937-50B9-4C19-ADB8-12963651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9058-8AE8-489E-BA87-2E655C40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A262-B3EC-4CF9-90CB-9D319265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1A13-9397-45B6-A803-72BAC4AA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093B-C6B6-4AFF-8FB5-F51B4026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7557-18DF-4B88-89F0-E9A74747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DF4D-499E-4543-9070-617CBD56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6027-7801-4ECB-A1E5-58612F17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B418-A2D2-4888-AC3D-33EA4AED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AD67-19A3-425F-AD31-56CA3855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07E5-B426-4D96-9C58-C4090BFD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75A1-A3FE-4266-99B7-2A333251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1E4B-03ED-40B2-A352-BB95D84D8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AAB2-E4C6-4657-8958-D3C31C8CE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7499-1E3B-4554-8F60-4907A14C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A5E4-4C84-43E2-8F1D-49F3C4BA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D12D-9F68-4C17-BD19-D1DDBF9A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28AF-BCAF-4BC7-BAD7-C584204C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A3B8-E1FF-4A89-83EA-1A99A95E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FE76-4558-430B-BBB1-0EE52AB1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BB9D-3CCF-4CBE-BE56-F54F655A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333A-EEF0-43BB-9410-B1E5F8E098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E1FD-DC81-479A-A5D5-92528EAEBE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600" spc="-1" strike="noStrike">
                <a:solidFill>
                  <a:srgbClr val="cc0000"/>
                </a:solidFill>
                <a:latin typeface="Arial"/>
              </a:rPr>
              <a:t>Poli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66"/>
                </a:solidFill>
                <a:latin typeface="Arial"/>
              </a:rPr>
              <a:t>Hi, me and 5e have been learning about Police I would like to tell you a little about them </a:t>
            </a:r>
            <a:r>
              <a:rPr b="0" lang="en-NZ" sz="1600" spc="-1" strike="noStrike">
                <a:solidFill>
                  <a:srgbClr val="003366"/>
                </a:solidFill>
                <a:latin typeface="Arial"/>
              </a:rPr>
              <a:t>5e Xav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356000" y="3500280"/>
            <a:ext cx="4788000" cy="332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Police Weap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 tazer, A Gun, Pepper spray, hand cuffs and a Ba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3911760"/>
            <a:ext cx="3924360" cy="29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Police work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olice have lots of jobs like the dispatcher, traffic and burglar ty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4881600"/>
            <a:ext cx="2340000" cy="19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id you know that you have to be older than 18 to be a police officer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4086360"/>
            <a:ext cx="2771640" cy="27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Jai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Jail is a terrible place were people called prisoners are sent when they do bad stu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440064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Thanks for watch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anks for watching hope you have a great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370836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02:25:07Z</dcterms:created>
  <dc:creator>5e14</dc:creator>
  <dc:description/>
  <dc:language>en-US</dc:language>
  <cp:lastModifiedBy>5e14</cp:lastModifiedBy>
  <dcterms:modified xsi:type="dcterms:W3CDTF">2011-09-08T23:40:46Z</dcterms:modified>
  <cp:revision>6</cp:revision>
  <dc:subject/>
  <dc:title>Police</dc:title>
</cp:coreProperties>
</file>